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AF4-4661-41EA-8296-ABD6B611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D23-0BDB-4305-B3B2-7AF7437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3AD-E7ED-4863-8467-FADF099E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862-06EA-4117-8655-5D061943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4B9-D1B3-43C7-AA77-502F15F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379-82A7-4AE9-A94A-695BECA8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DB1-0F95-476E-B05F-1EC8D10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10F-A499-4540-8C88-8578325B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9FB-E6F4-42E8-869D-E4CA203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150-ECB4-4316-BBB1-EBFD7D2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8B9-653B-4633-ADC6-1B7F2D7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D89-6919-41F6-9A47-E4621C5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9905-00BC-4BCF-A980-529DB82E7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06668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y page 2 as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use Insert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ete this slide after you’ve f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10008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22:33Z</dcterms:created>
  <dc:creator>harterp</dc:creator>
  <dc:description/>
  <dc:language>en-US</dc:language>
  <cp:lastModifiedBy>harterp</cp:lastModifiedBy>
  <dcterms:modified xsi:type="dcterms:W3CDTF">2008-01-08T16:31:59Z</dcterms:modified>
  <cp:revision>4</cp:revision>
  <dc:subject/>
  <dc:title>Slide 1</dc:title>
</cp:coreProperties>
</file>